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E8B-0553-41BF-A9CC-C37632D5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059-59E8-4EE0-8B5D-B31DE098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4AF-DE22-49D6-B6C4-9D3DEB80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3B8-D00D-4B23-A734-14ACFD25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32D-4E38-4644-9CE2-74A4F7E3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A57-7BD8-42E1-A66C-47EA829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110-6A50-41B4-B39A-B064FC5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315-EFC9-4886-9E52-32196C4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5DAE-9FDF-47FC-B314-70846E3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E3CD-9CB1-4E88-9701-4634B4D4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D6F-1B7A-4229-B12A-1AE1C2CA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AAD-5BD6-435E-B96E-0A3EDDAF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0B47-AF6C-4933-AA25-7C75B91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AA1-4FA4-459F-97A0-547FE8D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4D73-12AE-4A82-AFBD-2F4EBA0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D941-DCB9-4CBE-93DC-E7BC4E9C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365-A081-435C-92D0-8786C201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283-60A9-4A85-A1FF-B8D0E28E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8EA-4E56-4B2E-A2A2-736CEFF0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EAB-08F3-4242-B01C-2700FE1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687-6884-4339-92C1-CFD3EA23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949-2C4B-4576-90EA-CCEC17D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6E8-05F8-4A87-939B-29B969E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A55-9687-4D82-A83E-9663A55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A376-283A-4520-BBAE-F9A192CAC5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7207-45F1-40F7-8095-367628640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Edwardian Script ITC"/>
              </a:rPr>
              <a:t>Literature in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Edwardian Script ITC"/>
              </a:rPr>
              <a:t> the Tenses of Time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3581280"/>
            <a:ext cx="679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Edwardian Script ITC"/>
              </a:rPr>
              <a:t>Unit Portfolio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aramond"/>
              </a:rPr>
              <a:t>Blesille P. Cain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aramond"/>
              </a:rPr>
              <a:t>Leovie Corrina N. Sajo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GREAT JOB! </a:t>
            </a:r>
            <a:r>
              <a:rPr b="1" lang="en-US" sz="5400" spc="-1" strike="noStrike">
                <a:solidFill>
                  <a:srgbClr val="330066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 TO G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Wella &amp; S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Unit Summary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is course is designed to develop the literary skills of the Second Year High School students. The key activities are Visualizing what is happening in a Short Story and Deriving Meaning from the Picture 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small group sharing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Expressing Appreciation of an Essay 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a reflection paper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Pointing Out How Imagery Creates a Vivid Impression on the Reader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oral recitation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and  Appreciating an Epic Expressive of Our Identity and Cultural Heritage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composing a song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Garamond"/>
              </a:rPr>
              <a:t>CFQ’s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hy is it significant to study literature, specifically Philippine litera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How does literature shape the Filipinos as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te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Papyrus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ho are the characters in the story/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Cite some imagery from the literary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List some moral values depicted in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Vision for Unit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By creating this unit, we want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Encourage the students to preserve Filipino Identity and Cultural Heri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Infuse the love of Philippin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Enhance the literary skills of the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uring this unit, we want our students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Make connections of commonly identified “before and present” Filipino values from the lit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Use technology in making their project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Project Approaches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6294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s our students work on this project, th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Relate the literary pieces in authentic life experi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Collaborate with their classmates and some members of the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Present and discuss their creative outputs in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59092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21</a:t>
            </a:r>
            <a:r>
              <a:rPr b="1" lang="en-US" sz="6000" spc="-1" strike="noStrike" baseline="30000">
                <a:solidFill>
                  <a:srgbClr val="330066"/>
                </a:solidFill>
                <a:latin typeface="Edwardian Script ITC"/>
              </a:rPr>
              <a:t>st</a:t>
            </a: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 Century Learning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tudents will develop higher-order and 2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century skills in this unit as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Utilize the Essential, Unit and Content Questions to guide their understanding on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rite a reflective composition from th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Articulate the various Imagery found in the short s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42670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0066"/>
                </a:solidFill>
                <a:latin typeface="Edwardian Script ITC"/>
              </a:rPr>
              <a:t>Gauging Student Needs Assessments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Use CFQs to lea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Students’ view on the preservation of Filipino cultural identity, heritage and valu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Adequate information on the elements of a literary form such as short story, essay and ep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ssess 21st Century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Ability to make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connections of commonly identified “before and present” Filipino values from the litera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0066"/>
                </a:solidFill>
                <a:latin typeface="Edwardian Script ITC"/>
              </a:rPr>
              <a:t>Gauging Student Needs Assessments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We can use the information from these assessments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 </a:t>
            </a: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Handle common mistakes/error done by the students like in identifying elements of any literary pie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Provide even more meaningful learning experienc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tudents can use the information from these assessments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Enhance and practice their literary skills such as visualizing what happens in a story or pointing out imag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Motivate themselves in learning literature enthusiastic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76840" y="3276720"/>
            <a:ext cx="3467160" cy="3438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Requests for Feedback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ways to help students understand the in-depth meanings of the selected literary pi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help in assessing students’ higher-order thin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assistance in making the le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   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more interesting and f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5:38:34Z</dcterms:created>
  <dc:creator>CISO</dc:creator>
  <dc:description/>
  <dc:language>en-US</dc:language>
  <cp:lastModifiedBy>nave1386</cp:lastModifiedBy>
  <dcterms:modified xsi:type="dcterms:W3CDTF">2010-09-02T20:11:05Z</dcterms:modified>
  <cp:revision>43</cp:revision>
  <dc:subject/>
  <dc:title>Literature in The Tenses of Time </dc:title>
</cp:coreProperties>
</file>